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B614-FC9A-4205-8CF5-860F588D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3058-883E-430A-AC40-CF2D4E2E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E7D4-2509-4495-95D9-5C2540C3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CC9E-A4B9-4319-BAB7-43C4B912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37A2-93C6-4F53-B2D7-163ACBA3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8107-8006-4B43-B46F-ECB489FE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263D-7CC5-4895-8E7F-E7A6EFEE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D35D-5AB9-487D-AED5-F330A821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7C5F-26F6-4CD9-8462-0AD346B8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BEAA-19FA-4ABB-AAC9-D20DB2A1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1232-7773-4B7E-9616-E2FE35DF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082E-FA7E-4F65-9326-F9E9F425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9768-F6DB-43D8-B625-E9BF8DE0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F30A-3534-465A-ADC9-C644402A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B579-576C-4763-9586-B5DFA2C0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05DA-52DE-48D3-AAC5-EB0DDE05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6F16-EFCB-4543-80D0-73BD9BFD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E319-119C-4499-B9A1-1C3BE910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BE9C-A85D-488D-9D48-069C1B4A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4B35-F135-4023-95F5-2107C83D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2064-8B3C-4248-A245-A703008D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FC8F-1719-4C7B-82E7-74DDC9D9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ED0B-9D30-4D82-BAEB-25B57280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1FC1-1568-404A-A4BD-93E95B60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77EA-30ED-4705-9FDA-7BB70898CBB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3A28-E5B9-4546-A337-3D1BEFB7866E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авление персона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442200" y="3767040"/>
            <a:ext cx="211752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нятие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fig_strong_leadership"/>
          <p:cNvPicPr/>
          <p:nvPr/>
        </p:nvPicPr>
        <p:blipFill>
          <a:blip r:embed="rId1"/>
          <a:stretch/>
        </p:blipFill>
        <p:spPr>
          <a:xfrm>
            <a:off x="0" y="2509920"/>
            <a:ext cx="6481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333360"/>
            <a:ext cx="5313240" cy="1571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еханический и органический типы организац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99640" y="2707920"/>
            <a:ext cx="8001000" cy="381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ханистический тип организации существует в условиях стабильности рыночной и технологической среды, предсказуемого направления развития деятельности и организаци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рганический тип предполагает наличие высокой степени изменчивости технологической и рыночной среды организации, когда нет жесткой структуры, четкого распределения работ, а существуют механизмы быстрой адаптации к изменениям сре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188640"/>
            <a:ext cx="5313240" cy="1716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ория органических и механических систем</a:t>
            </a:r>
            <a:br>
              <a:rPr sz="3600"/>
            </a:b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Т.Бамс и Дж. Сталкер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20411" r="28572" b="10203"/>
          <a:stretch/>
        </p:blipFill>
        <p:spPr>
          <a:xfrm>
            <a:off x="228600" y="2282760"/>
            <a:ext cx="8915400" cy="4575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4233960" cy="164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Жизненный цикл организации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по И.Адизесу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8001000" cy="3733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4449960" cy="150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ы развития и кризисы роста организации </a:t>
            </a: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(по Л. Грейнеру)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8305920" cy="4343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5040360" cy="855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1: Творчеств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424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снователь (основатели) компании обычно обладают какими-либо техническими или предпринимательскими навыками, умениями, способностями. Они не столько фокусируются на менеджерские функции, сколько на производство и продажу нового «продукта» (услуги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бщение между сотрудниками довольно интенсивно и носит скорее неформальный характер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Долгие часы работы вознаграждаются сравнительно невысокими (средними) зарплатами, в придачу с надеждами или обещаниями будущей выгоды от участия в собствен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правление деятельностью подчинено имеющимся капитальным ресурсам и характеризуется постоянной связью с соответствующими рыночными нишами. Где только можно — организация быстро реагирует на любые запросы клиент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51116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2: Направленный рос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3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личие функциональной организационной структуры с четко определенными ролями и должностными обязанностям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(или более активное использование) четкой системы учета и отчетности, в особенности, в отношении закупочных материалов, сырья, полуфабрикатов и т.п.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систем мониторинга и контроля, планирования бюджета и вырабатывания стандартов качеств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ммуникации (формы общения) становятся более формальными и обезличенным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овый менеджер и его/ее ключевые помощники задают направление и берут на себя лидирующие роли, в то время как контролеры более низкого уровня в большей степени выполняют роли функциональных специалист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620280"/>
            <a:ext cx="42480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 3: Рост через делегирован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99640" y="2491920"/>
            <a:ext cx="8001000" cy="394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собенности этапа определяется приложениями и возможностями децентрализации организационной структур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неджеры децентрализованной оргструктуры, обладающие большей властью, способны быстрее отвечать на запросы клиентов, лучше адаптируя к их запросам и развивая свои продукты и качество рабочей сре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озможны кризисы, когда  менеджеры высшего звена начнут ощущать потерю контроля над компанией в целом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691920"/>
            <a:ext cx="480996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4: Рост через координацию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560" y="2707920"/>
            <a:ext cx="8001000" cy="351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и/или серьезный пересмотр формальных процедур планировани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йм (или обучение) специального корпоративного персонала для инициирования программ мониторинга и контрол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спользование процедур тщательного мониторинга капитальных расхо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Функционирование групп разработки новых продуктов как «индивидуальных центров затрат»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ередача прерогатив обработки данных и других подобных технических функций централизованной структуре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спользование возможностей выпуска акций предприятия и участия в его прибылях с целью поощрения и стимулирования развития у сотрудников чувства собственности и своей связи с компанией в цел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11280" y="549000"/>
            <a:ext cx="41040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 5: Рост через сотрудничество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99640" y="2707920"/>
            <a:ext cx="8001000" cy="351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окус на решение проблем через командное взаимодействие менеджеров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оманды комбинируются по кроссфункциональному принципу с целью решения конкретной проблемы (внедрение матричных организационных структур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нижение численности корпоративного персонала с его одновременным перераспределением по принципу комбинирования различных функциональных и специальных областей экспертизы. При этом от корпоративного персонала требуется выполнения функций консультирования, а не указыва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недрение программ образования, повышения квалификации и саморазвития с целью совершенствования необходимых навыков и умений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формационные системы, работающие в режиме реального времени, внедряются в практику повседневной работы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новациям и творчеству отдается самый высокий приорите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5313600" cy="1716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Value Based Management (Ценностно-ориентированное управление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12247" t="32655" r="14283" b="61226"/>
          <a:stretch/>
        </p:blipFill>
        <p:spPr>
          <a:xfrm>
            <a:off x="1042920" y="2924280"/>
            <a:ext cx="7848720" cy="1218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industrializirovannaya%20filosofiya%20upravleniya%20kadrami"/>
          <p:cNvPicPr/>
          <p:nvPr/>
        </p:nvPicPr>
        <p:blipFill>
          <a:blip r:embed="rId3"/>
          <a:stretch/>
        </p:blipFill>
        <p:spPr>
          <a:xfrm>
            <a:off x="1258920" y="4292640"/>
            <a:ext cx="69850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240480" y="331200"/>
            <a:ext cx="7027920" cy="62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Управление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персоналом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Систем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.1.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Теория органических и механических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систем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 Организация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1. Обязательные условия существования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2. Характеристики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3. Внешняя среда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4.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Внутренняя среда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5. Механический и органический типы организаций,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6. Жизненный цикл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7. Этапы развития и кризисы роста организации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1: Творчество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2: Направленный рос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3: Рост через делегирование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4: Рост через координацию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5: Рост через сотрудничество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bb29ac710271904ed939a848a3befaf7"/>
          <p:cNvPicPr/>
          <p:nvPr/>
        </p:nvPicPr>
        <p:blipFill>
          <a:blip r:embed="rId2"/>
          <a:stretch/>
        </p:blipFill>
        <p:spPr>
          <a:xfrm>
            <a:off x="7236000" y="2060640"/>
            <a:ext cx="17269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4521240" cy="1432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епочка создания ценности</a:t>
            </a:r>
            <a:br>
              <a:rPr sz="3200"/>
            </a:br>
            <a:r>
              <a:rPr b="0" i="1" lang="ru-RU" sz="3200" spc="-1" strike="noStrike">
                <a:solidFill>
                  <a:srgbClr val="006666"/>
                </a:solidFill>
                <a:latin typeface="Arial"/>
              </a:rPr>
              <a:t>по М.Портер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11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905440" cy="1868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 классификации значимости заинтересованных сторон </a:t>
            </a: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по А.Митчелу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rcRect l="25715" t="28572" r="25715" b="14284"/>
          <a:stretch/>
        </p:blipFill>
        <p:spPr>
          <a:xfrm>
            <a:off x="1403280" y="2565360"/>
            <a:ext cx="7010640" cy="3848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4897440" cy="1575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рта заинтересованных сторо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rcRect l="0" t="10167" r="0" b="0"/>
          <a:stretch/>
        </p:blipFill>
        <p:spPr>
          <a:xfrm>
            <a:off x="914400" y="228600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5457960" cy="150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ержневые компетенции отличаются от компетенци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2637000"/>
            <a:ext cx="8001000" cy="3527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исущи только тем компаниям, показатели которых превосходят  средний уровень, характерный для данной отрасл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личаются уникальностью и свойственны только одной компан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личаются сложностью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не поддаются копированию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вязаны с удовлетворением запросов заказчика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пособствуют повышению ценности продукта чаще, компетенц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являются в результате особых взаимоотношений с дистрибьюторами и поставщикам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азируются на превосходных умениях и знаниях сотрудников компан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560232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ри движущих силы новой эконом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2565000"/>
            <a:ext cx="8001000" cy="410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Знания – интеллектуальный капитал  стал стратегическим фактором; набор понятий, используемых людьми для принятия решения, критичны для компании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Перемены – непрерывные, быстрые и сложные  перемены создают неопределенность и сокращают предсказуемость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Глобализация – в научно-технических разработках, технологиях, производстве, торговле, финансах, коммуникациях и информации, которая привела к раскрытию экономик, глобальной гиперконкуренции и взаимозависимости бизнесов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4681440" cy="1368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Далай Лама о современном мир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920" y="2361960"/>
            <a:ext cx="7872480" cy="423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ши дома всё больше, а семьи всё меньш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 нас больше удобств, но меньше времен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ученых степеней, но меньше здравого смысла..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знаний, но меньше способности к трезвому суждению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специалистов, но еще больше пробле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лекарств, но меньше здоровь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проделали долгий путь до луны и обратно, но нам сложно перейти улицу, чтоб встретиться с новым сосед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создали множество компьютеров для хранения и копирования огромных объёмов информации, но стали меньше общаться друг с друг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выиграли в количестве, но проиграли в качеств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то время быстрого питания, но медленного усвое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Людей высокого роста, но низкой нравствен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ысоких доходов, но мелочных отношени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то время, когда так много за окном, но ничего в комнат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052280"/>
            <a:ext cx="3024000" cy="63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стема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424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истема – это набор взаимосвязанных и взаимозависимых частей, составленных в таком порядке, который позволяет воспроизвести цело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никальной характеристикой при рассмотрении систем являются внутренние отношения част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ждая-система характеризуется дифференциацией и  интеграци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ждый элемент системы выполняет свои определенные функци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ля того чтобы поддерживать отдельные части в одном организме и формировать завершенное целое, в каждой системе осуществляется интеграция через: координацию уровней иерархии управления, прямое наблюдение, правила, процедуры, курс действ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Picture 7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3888000" cy="792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рганиз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565360"/>
            <a:ext cx="8001000" cy="2362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рганизация — это сознательное объединение людей, деятельность которых планомерно координируется для достижения общей для всех цели или системы цел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industrializirovannaya%20filosofiya%20upravleniya%20kadrami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404640"/>
            <a:ext cx="5962680" cy="1500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язательные условия существования организа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2781360"/>
            <a:ext cx="800100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двух или более людей, которые считают себя группо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одного или нескольких ориентиров, к которым стремятся все члены групп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членов группы, которые мобилизуют, координируют, направляют деятельность других, чтобы достичь единой для всех ц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640" y="691920"/>
            <a:ext cx="41054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арактеристики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251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целевое назначе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авовой стату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истема внутреннего взаимодействия и система взаимоотношений с внешней сред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industrializirovannaya%20filosofiya%20upravleniya%20kadrami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5097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нешняя среда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24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496728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нутренняя среда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24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3T12:03:25Z</dcterms:created>
  <dc:creator>Администратор</dc:creator>
  <dc:description/>
  <dc:language>en-US</dc:language>
  <cp:lastModifiedBy>Людмила</cp:lastModifiedBy>
  <dcterms:modified xsi:type="dcterms:W3CDTF">2017-08-21T07:34:11Z</dcterms:modified>
  <cp:revision>12</cp:revision>
  <dc:subject/>
  <dc:title>Основы управления персоналом</dc:title>
</cp:coreProperties>
</file>